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C3B-6F04-4372-8F47-BCE3C48F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B37-2534-4491-A2B8-9B7E7F56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379-03B3-47DC-8298-BAABF425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6E9-EC5A-44F5-9A35-F297E7EB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B5FF-3DFB-4C92-8239-38F1DD2A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9265-FF15-45E3-A99A-828C76E4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1DD-7ADB-4FFB-8C1B-16811C4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0449-058D-419D-87F3-76A452C1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721-3EBA-4E73-8824-9A133BE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A8B7-3E7B-436C-86C0-A1D4617E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9208-D5DB-4697-B57C-72CA161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8A9-FA2C-4EB8-ACCC-45E23B79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5B15-8CB4-4CE7-9DFB-0CEC2A6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FF0-599D-44AD-9736-4606715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131-8091-4871-A0D3-ED249ED2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00D9-2997-42A6-9825-1DFBFB2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E83-4C6C-4EAC-822A-BF1CDBC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DFD-9545-4E3D-B3C5-E5F365D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DDE-0670-49F6-9E9B-1218C559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B48-8405-4945-B1DF-0E5E1093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CB4-784F-494F-B919-855FDF0D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CCD-5329-47B5-8D3A-EF7D716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6F5-958E-4797-B325-D4F85D3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620-0417-4445-88DB-72A4189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732-32B0-4263-BD26-79209A481301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77A-9A93-4F33-A78F-CC65457F5FD0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Tech Team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upport Hard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tel ProSet 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Internet Connectivity for PC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k selected participants to share some issues they faced when practicing  connecting to the wirele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how they handled these issu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 (insert answers here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configure our school’s computers wireless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steps I need to follow to connect to the school’s wireless signa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discuss the necessary steps to successfully reconfigure Internet setting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school laptop users experience difficulty when they lose their connection to the school’s Internet.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is an inconvenience to both teachers and stud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Watch me as I show you how to connect to the wireless network.”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1: Before turning the power on, make sure the wireless switch on the left hand side panel is pushed forward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2: Turn the power on the laptop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3: After the computer has booted up, make sure the blue light is on next to the green power ligh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4: On the bottom right hand corner of the screen hover your mouse over  the icon for Wireless Network Connection Wizard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5: A small window should come up stating the connection, speed, strength, and status.  There should be 3 green signal waves coming out of the monitor icon. If it states you are connected, try opening Internet Explorer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6: If you have a red X on the Wireless Network Connection wizard, right click the icon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7: Click repair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8: It will then refresh the wireless settings for the laptop.  Once this is complete a window should pop up stating that you are connected to the wireless network connection (DOETWAC00M001vl90g, etc.)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The DOETWAC00M001vl # may change depending on location in the building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uide participants through the proces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 is your turn to try it.” Follow the steps to connect to the school’s wireless conne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ll participants what they will be doing during their work time, and how much time they have: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“Take the next 15 minutes to reconfigure the wireless settings on your laptop to these settings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rofile Name: PS55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SID: DOETWAC00M001vl60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EP Key:  31R055D5001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Participants will...</a:t>
            </a:r>
            <a:br>
              <a:rPr sz="2400"/>
            </a:b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1: Open Wireless Signal (ascending bars on the bottom right corner of start pane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2: Click on the tab Wireless Network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3: Click on the add wan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4: Click manually connect to an advanced network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3: Enter the SSID cod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4: Enter the WEP Ke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5: Establish a connection to the Interne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8-10-17T18:39:29Z</dcterms:modified>
  <cp:revision>11</cp:revision>
  <dc:subject/>
  <dc:title>Workshop Title</dc:title>
</cp:coreProperties>
</file>